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E6B8-CCA7-4210-A536-317BAD54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617D-048C-4A46-8EB8-92EBFD4E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1B07-D88A-4D7D-B5CD-312C62A8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8E52-5030-4870-B243-222C66F7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D4E9-7E50-4E40-948E-2A84E170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CA93-8B6C-419A-A7A6-B8DC02D5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D093-3500-4DA3-A4DC-7E8DA2BE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4444-C6BC-4585-A97D-D9B3BB7C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66EF-D895-4CD4-93F6-10ACC596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9A78-C3FE-405D-9C7C-D34904C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489C-D3AB-4C55-A7DE-8D562FBD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6D1E-FC1B-48AC-A32A-C820F7B5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5B7E-7064-444E-98B0-5F79A10E4C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PA2-1617-D3TI02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6461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Anggota Kelompok :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a9a5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Hartanti Saragih</a:t>
            </a: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 (11315023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a9a5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Violinna Hutagalung</a:t>
            </a: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 (11315030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a9a5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Grace Naomi Damanik</a:t>
            </a: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6d5225"/>
                </a:solidFill>
                <a:latin typeface="Times New Roman"/>
                <a:ea typeface="Times New Roman"/>
              </a:rPr>
              <a:t> (11315032)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9880" y="45684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Cambria"/>
              </a:rPr>
              <a:t>Product Main Function 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ungsi utama SIPSB yang akan dibangun adalah sebagai berikut 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Fungsi mendaft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Fungsi membatalkan pendaftara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Fungsi melihat data pendaftara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Fungsi membuat kartu ujia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Fungsi mencetak kartu ujia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6. Fungsi membuat lokasi ujia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7. Fungsi melihat lokasi ujia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8. Fungsi mengupload </a:t>
            </a:r>
            <a:r>
              <a:rPr b="0" i="1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urce 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al-soa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9.Fungsi mendownload </a:t>
            </a:r>
            <a:r>
              <a:rPr b="0" i="1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urce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soal-soa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0. Fungsi membuat pengumuman hasil ujia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1. Fungsi melihat pengumuman hasil ujia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2. Fungsi membuat keterangan pendaftaran ula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3. Fungsi melihat keterangan pendaftaran ula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r Group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r Group – 1 (Calon siswa)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r Group – 2 (Tata Usah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r Group – 3 (Kepala sekolah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Ca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604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Registe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Login (peserta ujian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RUD Data pribadi calon siswa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RUD Data orangtua calon siswa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RUD Data asal sekolah calon siswa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Melihat lokasi ujia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wnload soal-soal tahun lalu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Melihat kartu ujia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wnload kartu ujia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Melihat hasil ujia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Melihat jadwal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Login (tata usaha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Update and Delete data pendaft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RUD kartu calon siswa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elete akun calon siswa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RUD soal-soal ujian tahun lalu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RUD hasil ujia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Login (kepala sekolah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Melihat data calon siswa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Melihat hasil ujia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Right Brace 2"/>
          <p:cNvSpPr/>
          <p:nvPr/>
        </p:nvSpPr>
        <p:spPr>
          <a:xfrm>
            <a:off x="4191120" y="1600200"/>
            <a:ext cx="761760" cy="2514600"/>
          </a:xfrm>
          <a:custGeom>
            <a:avLst/>
            <a:gdLst>
              <a:gd name="textAreaLeft" fmla="*/ 0 w 761760"/>
              <a:gd name="textAreaRight" fmla="*/ 275040 w 761760"/>
              <a:gd name="textAreaTop" fmla="*/ 19800 h 2514600"/>
              <a:gd name="textAreaBottom" fmla="*/ 249480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3"/>
                  <a:pt x="10800" y="545"/>
                </a:cubicBezTo>
                <a:lnTo>
                  <a:pt x="10800" y="10255"/>
                </a:lnTo>
                <a:cubicBezTo>
                  <a:pt x="10800" y="10528"/>
                  <a:pt x="16200" y="10800"/>
                  <a:pt x="21600" y="10800"/>
                </a:cubicBezTo>
                <a:cubicBezTo>
                  <a:pt x="16200" y="10800"/>
                  <a:pt x="10800" y="11073"/>
                  <a:pt x="10800" y="11345"/>
                </a:cubicBezTo>
                <a:lnTo>
                  <a:pt x="10800" y="21055"/>
                </a:lnTo>
                <a:cubicBezTo>
                  <a:pt x="10800" y="21328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a6a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334120" y="2673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Calon sisw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Right Brace 5"/>
          <p:cNvSpPr/>
          <p:nvPr/>
        </p:nvSpPr>
        <p:spPr>
          <a:xfrm>
            <a:off x="4267080" y="4191120"/>
            <a:ext cx="457200" cy="144756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447560"/>
              <a:gd name="textAreaBottom" fmla="*/ 14356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a6a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334120" y="453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ata Usah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Right Brace 7"/>
          <p:cNvSpPr/>
          <p:nvPr/>
        </p:nvSpPr>
        <p:spPr>
          <a:xfrm>
            <a:off x="4267080" y="5638680"/>
            <a:ext cx="304920" cy="7668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766800"/>
              <a:gd name="textAreaBottom" fmla="*/ 758880 h 7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8"/>
                  <a:pt x="10800" y="715"/>
                </a:cubicBezTo>
                <a:lnTo>
                  <a:pt x="10800" y="10085"/>
                </a:lnTo>
                <a:cubicBezTo>
                  <a:pt x="10800" y="10443"/>
                  <a:pt x="16200" y="10800"/>
                  <a:pt x="21600" y="10800"/>
                </a:cubicBezTo>
                <a:cubicBezTo>
                  <a:pt x="16200" y="10800"/>
                  <a:pt x="10800" y="11158"/>
                  <a:pt x="10800" y="11515"/>
                </a:cubicBezTo>
                <a:lnTo>
                  <a:pt x="10800" y="20885"/>
                </a:lnTo>
                <a:cubicBezTo>
                  <a:pt x="10800" y="2124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a6a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257800" y="5715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Kepala Sekolah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Class Diagram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5" name="Content Placeholder 3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525780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aftar Repor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 1: Data Pribadi Calon Sisw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 2: Data Asal Sekolah Calon Sisw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 3: Data Orangtua Calon Sisw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 4: Data Pendaft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 5: Kartu Uji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 6: Lokasi Uji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 7: Pengumuman Hasil Uji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 8: Syarat dan Ketentuan Pendaftaran Ula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6477120" cy="4815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vervie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ujuan Pembuatan Doku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urrent Syst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arget Syst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oduct Main Func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r Grou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 Ca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ass Diagr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aftar Rep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med"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ujuan Pembuatan Dokum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2f2b20"/>
                </a:solidFill>
                <a:latin typeface="Calibri"/>
              </a:rPr>
              <a:t>Penulisan dokumen ini bertujan untuk merumuskan kebutuhan perangkat  lunak yang diperoleh dari analisis yang dilakukan oleh </a:t>
            </a:r>
            <a:r>
              <a:rPr b="0" i="1" lang="en-AU" sz="2200" spc="-1" strike="noStrike">
                <a:solidFill>
                  <a:srgbClr val="2f2b20"/>
                </a:solidFill>
                <a:latin typeface="Calibri"/>
              </a:rPr>
              <a:t>developer</a:t>
            </a:r>
            <a:r>
              <a:rPr b="0" lang="en-AU" sz="2200" spc="-1" strike="noStrike">
                <a:solidFill>
                  <a:srgbClr val="2f2b20"/>
                </a:solidFill>
                <a:latin typeface="Calibri"/>
              </a:rPr>
              <a:t>, membuat spesifikasi perancangan aplikasi yang akan dibangun. Spesifikasi yang dirancang akan digunakan sebagai acuan bagi </a:t>
            </a:r>
            <a:r>
              <a:rPr b="0" i="1" lang="en-AU" sz="2200" spc="-1" strike="noStrike">
                <a:solidFill>
                  <a:srgbClr val="2f2b20"/>
                </a:solidFill>
                <a:latin typeface="Calibri"/>
              </a:rPr>
              <a:t>programmer</a:t>
            </a:r>
            <a:r>
              <a:rPr b="0" lang="en-AU" sz="2200" spc="-1" strike="noStrike">
                <a:solidFill>
                  <a:srgbClr val="2f2b20"/>
                </a:solidFill>
                <a:latin typeface="Calibri"/>
              </a:rPr>
              <a:t> dalam implementasi system yang akan dibangun yaitu Sistem Penerimaan Siswa Baru. Dokumen ini juga berguna untuk  menyamakan presepsi antara </a:t>
            </a:r>
            <a:r>
              <a:rPr b="0" i="1" lang="en-AU" sz="2200" spc="-1" strike="noStrike">
                <a:solidFill>
                  <a:srgbClr val="2f2b20"/>
                </a:solidFill>
                <a:latin typeface="Calibri"/>
              </a:rPr>
              <a:t>developer </a:t>
            </a:r>
            <a:r>
              <a:rPr b="0" lang="en-AU" sz="2200" spc="-1" strike="noStrike">
                <a:solidFill>
                  <a:srgbClr val="2f2b20"/>
                </a:solidFill>
                <a:latin typeface="Calibri"/>
              </a:rPr>
              <a:t>dan </a:t>
            </a:r>
            <a:r>
              <a:rPr b="0" i="1" lang="en-AU" sz="2200" spc="-1" strike="noStrike">
                <a:solidFill>
                  <a:srgbClr val="2f2b20"/>
                </a:solidFill>
                <a:latin typeface="Calibri"/>
              </a:rPr>
              <a:t>client</a:t>
            </a:r>
            <a:r>
              <a:rPr b="0" lang="en-AU" sz="2200" spc="-1" strike="noStrike">
                <a:solidFill>
                  <a:srgbClr val="2f2b20"/>
                </a:solidFill>
                <a:latin typeface="Calibri"/>
              </a:rPr>
              <a:t> tentang system yang akan dibangun.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PMN Current System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90680" y="2133720"/>
            <a:ext cx="7738920" cy="3551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PMN Target System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. BPMN Target System (Pendaftara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5943600" cy="391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Cont..</a:t>
            </a:r>
            <a:br>
              <a:rPr sz="4100"/>
            </a:b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2. Pembuatan Kartu Ujian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77598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Cont…</a:t>
            </a:r>
            <a:br>
              <a:rPr sz="4100"/>
            </a:b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3. Akses Soal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52640" y="1600200"/>
            <a:ext cx="642924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Cont…</a:t>
            </a:r>
            <a:br>
              <a:rPr sz="4100"/>
            </a:b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4. Lokasi Ujian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0" r="0" b="18235"/>
          <a:stretch/>
        </p:blipFill>
        <p:spPr>
          <a:xfrm>
            <a:off x="685800" y="2057400"/>
            <a:ext cx="705024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Cont…</a:t>
            </a:r>
            <a:br>
              <a:rPr sz="3500"/>
            </a:b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5. Hasil Ujian</a:t>
            </a:r>
            <a:endParaRPr b="0" lang="en-US" sz="35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0" t="0" r="0" b="13713"/>
          <a:stretch/>
        </p:blipFill>
        <p:spPr>
          <a:xfrm>
            <a:off x="1828800" y="1417680"/>
            <a:ext cx="655308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00:18:58Z</dcterms:created>
  <dc:creator>Tanti</dc:creator>
  <dc:description/>
  <dc:language>en-US</dc:language>
  <cp:lastModifiedBy>Violin Hutagalung</cp:lastModifiedBy>
  <dcterms:modified xsi:type="dcterms:W3CDTF">2017-04-26T03:08:02Z</dcterms:modified>
  <cp:revision>42</cp:revision>
  <dc:subject/>
  <dc:title>PA-2 SYP-02-D3TI</dc:title>
</cp:coreProperties>
</file>